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F951-82D4-455B-B691-D6530F30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5C58-FCC7-43B3-B772-2B191A4F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F9F2-39BB-4892-A401-E2BD87ED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5383-7C6C-4375-883F-E26B33FD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CACF-3C46-4191-988C-319812AE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DAC-4FF4-40FF-9A9D-CDD25B07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951E-B59D-490D-90FD-21968E70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EF24-6E78-4A72-838E-9F648457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F7A3-C542-4904-B063-2433C97C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E3F4-E428-4C3A-8B6C-86AF05C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AD08-1995-45A4-8824-2B1D5360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03E6-0E7D-43DF-A711-2BB20DC2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A4D8-E275-4A15-832E-9B9C6FD9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EDD4-A39C-499B-8906-3C13F672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A5D1-9F8C-43DE-8A6C-B5AF9627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59B8-9473-4343-87E0-11A8B933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D904-F66C-4922-8701-322B2942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7D6D-2F19-44A7-AC41-4B972448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A83F-BE46-4CFE-AB57-F5A43453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52B4-EA63-43DF-AC06-4DDBCC59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8CFE-86B2-468C-8A6A-CC31A2BD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BEFD-F62D-4269-96D0-131F85FB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0D50-82EB-467E-AE20-08B6580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5B7A-21D5-43E2-B37A-2B7652C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A964-2B44-4EEF-AA06-FD6C435CAE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8D33-1F93-4499-ABA3-68232C7569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wakefiel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86600" y="495288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ison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/11/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228600"/>
            <a:ext cx="72388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The Chocolate Chip Cookie</a:t>
            </a:r>
            <a:endParaRPr b="1" i="1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133360" cy="2209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053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Invented by: Ruth Wake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19520" y="6019920"/>
            <a:ext cx="36576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Cold Kil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6/1/11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freeplaymusic.co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Wakefield"/>
          <p:cNvPicPr/>
          <p:nvPr/>
        </p:nvPicPr>
        <p:blipFill>
          <a:blip r:embed="rId1"/>
          <a:srcRect l="0" t="-7595" r="0" b="0"/>
          <a:stretch/>
        </p:blipFill>
        <p:spPr>
          <a:xfrm>
            <a:off x="1066680" y="2438280"/>
            <a:ext cx="4953240" cy="2514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Wakefield"/>
          <p:cNvPicPr/>
          <p:nvPr/>
        </p:nvPicPr>
        <p:blipFill>
          <a:blip r:embed="rId2"/>
          <a:srcRect l="0" t="3424" r="0" b="0"/>
          <a:stretch/>
        </p:blipFill>
        <p:spPr>
          <a:xfrm>
            <a:off x="6019920" y="2666880"/>
            <a:ext cx="166680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685800"/>
            <a:ext cx="6934320" cy="20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Lemelson MIT Program, </a:t>
            </a:r>
            <a:r>
              <a:rPr b="0" lang="en-US" sz="2100" spc="-1" strike="noStrike" u="sng">
                <a:solidFill>
                  <a:srgbClr val="773503"/>
                </a:solidFill>
                <a:uFillTx/>
                <a:latin typeface="Papyrus"/>
              </a:rPr>
              <a:t>Ruth Wakefield</a:t>
            </a: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, 5/16/11,</a:t>
            </a:r>
            <a:r>
              <a:rPr b="0" lang="en-US" sz="21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2100" spc="-1" strike="noStrike" u="sng">
                <a:solidFill>
                  <a:srgbClr val="ffcc00"/>
                </a:solidFill>
                <a:uFillTx/>
                <a:latin typeface="Papyrus"/>
                <a:hlinkClick r:id="rId3"/>
              </a:rPr>
              <a:t>http://web.mit.edu/invent/iow/wakefield.html</a:t>
            </a:r>
            <a:r>
              <a:rPr b="0" lang="en-US" sz="2100" spc="-1" strike="noStrike" u="sng">
                <a:solidFill>
                  <a:srgbClr val="000514"/>
                </a:solidFill>
                <a:uFillTx/>
                <a:latin typeface="Papyrus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hocolate Chip </a:t>
            </a:r>
            <a:r>
              <a:rPr b="1" lang="en-US" sz="4400" spc="-1" strike="noStrike">
                <a:solidFill>
                  <a:srgbClr val="e5e5ff"/>
                </a:solidFill>
                <a:latin typeface="Centaur"/>
              </a:rPr>
              <a:t>Cook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3503"/>
                </a:solidFill>
                <a:latin typeface="Papyrus"/>
              </a:rPr>
              <a:t>The chocolate chip cookie started out as a Butter Drop Do Cooki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Papyrus"/>
              </a:rPr>
              <a:t>The cookie was created on accid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3503"/>
                </a:solidFill>
                <a:latin typeface="Papyrus"/>
              </a:rPr>
              <a:t>It increased the sales for the Nestle chocolate b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Papyrus"/>
              </a:rPr>
              <a:t>There are many different recipes today on how to make the same recipe taste different or even better.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entaur"/>
              </a:rPr>
              <a:t>Inventor: Ruth Wakefield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514"/>
                </a:solidFill>
                <a:latin typeface="Papyrus"/>
              </a:rPr>
              <a:t>Ruth graduated from the Framingham State Normal School Department of Household Arts in 1924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After graduating she worked as a dietitian and food lecturer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514"/>
                </a:solidFill>
                <a:latin typeface="Papyrus"/>
              </a:rPr>
              <a:t>Her and her husband decided to purchase a Cape Cod-style toll house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One day, Ruth was making Butter Drop Do Cookies and she ran out of baker’s chocolate. She added semi-sweet chocolate pieces assuming that it would melt into the cookie as it baked in the oven. The chocolate held its shape and became gooey and creamy.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514"/>
                </a:solidFill>
                <a:latin typeface="Papyrus"/>
              </a:rPr>
              <a:t>Ruth Wakefield had invented the chocolate chip cookie with help from Nestle with their semi-sweet chocolate bar.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Nestle printed Ruth’s recipe on the back of the Nestle bag for the chocolate for many to enjoy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514"/>
                </a:solidFill>
                <a:latin typeface="Papyrus"/>
              </a:rPr>
              <a:t>The chocolate chip cookie today is enjoyed be many people world-wide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2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7Z</dcterms:created>
  <dc:creator>install</dc:creator>
  <dc:description/>
  <dc:language>en-US</dc:language>
  <cp:lastModifiedBy>install</cp:lastModifiedBy>
  <dcterms:modified xsi:type="dcterms:W3CDTF">2011-06-01T17:35:52Z</dcterms:modified>
  <cp:revision>13</cp:revision>
  <dc:subject/>
  <dc:title>Slide 1</dc:title>
</cp:coreProperties>
</file>